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86F1D-480E-46BD-8025-5FBE51385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FBD06-DD45-4163-9817-09F89EC3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F6C0B-6531-4241-AD20-6938AE33E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63EA5-45D8-4DE2-9E48-E6D292227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A375B-05EA-4614-B00F-71C71AE02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EB0B7-D28E-4BC2-B0F8-5AA86AC9A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E881A-D454-4D83-BD63-D1A9B333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F4B3C-A8D6-460E-A101-D7047DC6D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F3A8E-9987-433B-BD1C-9F1872896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E624-BA70-480C-91A6-80325531C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D30B9-2ED4-45C3-922E-F5C32CE82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26BAD-4205-4E2A-A02B-94EDB141A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A7988-79C0-4EC0-BF39-0E8DB62A2476}"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DD746-1BE9-4152-9D04-E0E9B58790F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ativeamericans.mrdonn.org/greencorn.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299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Calibri"/>
              </a:rPr>
              <a:t>The Cherokee Tribe</a:t>
            </a:r>
            <a:br>
              <a:rPr sz="4000"/>
            </a:br>
            <a:endParaRPr b="0" lang="en-US" sz="6600" spc="-1" strike="noStrike">
              <a:solidFill>
                <a:srgbClr val="ffffff"/>
              </a:solidFill>
              <a:latin typeface="Calibri"/>
            </a:endParaRPr>
          </a:p>
        </p:txBody>
      </p:sp>
      <p:sp>
        <p:nvSpPr>
          <p:cNvPr id="42" name="PlaceHolder 2"/>
          <p:cNvSpPr>
            <a:spLocks noGrp="1"/>
          </p:cNvSpPr>
          <p:nvPr>
            <p:ph type="subTitle"/>
          </p:nvPr>
        </p:nvSpPr>
        <p:spPr>
          <a:xfrm>
            <a:off x="1371600" y="5246640"/>
            <a:ext cx="6400800" cy="9684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 Caleb and Libby</a:t>
            </a:r>
            <a:endParaRPr b="0" lang="en-US" sz="3200" spc="-1" strike="noStrike">
              <a:solidFill>
                <a:srgbClr val="ffffff"/>
              </a:solidFill>
              <a:latin typeface="Calibri"/>
            </a:endParaRPr>
          </a:p>
        </p:txBody>
      </p:sp>
      <p:pic>
        <p:nvPicPr>
          <p:cNvPr id="43" name="Picture 7" descr="thumbnail"/>
          <p:cNvPicPr/>
          <p:nvPr/>
        </p:nvPicPr>
        <p:blipFill>
          <a:blip r:embed="rId2"/>
          <a:stretch/>
        </p:blipFill>
        <p:spPr>
          <a:xfrm>
            <a:off x="380880" y="2001960"/>
            <a:ext cx="2289240" cy="3244680"/>
          </a:xfrm>
          <a:prstGeom prst="rect">
            <a:avLst/>
          </a:prstGeom>
          <a:ln w="0">
            <a:noFill/>
          </a:ln>
        </p:spPr>
      </p:pic>
      <p:pic>
        <p:nvPicPr>
          <p:cNvPr id="44" name="Picture 4" descr=""/>
          <p:cNvPicPr/>
          <p:nvPr/>
        </p:nvPicPr>
        <p:blipFill>
          <a:blip r:embed="rId3"/>
          <a:stretch/>
        </p:blipFill>
        <p:spPr>
          <a:xfrm>
            <a:off x="5234040" y="2001960"/>
            <a:ext cx="3674880" cy="32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were the daily lives of the Cherokee men?</a:t>
            </a:r>
            <a:endParaRPr b="0" lang="en-US" sz="4000" spc="-1" strike="noStrike">
              <a:solidFill>
                <a:srgbClr val="ffffff"/>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shing and hunting were the main jobs of the Cherokee men, except for growing corn. There were no formal schools for children, but they learned the Cherokee history from their parents and relatives. These stories were fun to hear, and taught lessons of good manners and behavior.</a:t>
            </a:r>
            <a:br>
              <a:rPr sz="3200"/>
            </a:b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280" y="313920"/>
            <a:ext cx="7697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d0d0d"/>
                </a:solidFill>
                <a:latin typeface="Calibri"/>
              </a:rPr>
              <a:t>What did the Cherokees give to Texas?</a:t>
            </a:r>
            <a:endParaRPr b="0" lang="en-US" sz="40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The Cherokee are famous for their beautiful baskets. They used baskets to hold food like corn as they picked it and to hold wild berries and roots.</a:t>
            </a:r>
            <a:endParaRPr b="0" lang="en-US" sz="3200" spc="-1" strike="noStrike">
              <a:solidFill>
                <a:srgbClr val="ffffff"/>
              </a:solidFill>
              <a:latin typeface="Calibri"/>
            </a:endParaRPr>
          </a:p>
        </p:txBody>
      </p:sp>
      <p:pic>
        <p:nvPicPr>
          <p:cNvPr id="66" name="Picture 3" descr=""/>
          <p:cNvPicPr/>
          <p:nvPr/>
        </p:nvPicPr>
        <p:blipFill>
          <a:blip r:embed="rId2"/>
          <a:stretch/>
        </p:blipFill>
        <p:spPr>
          <a:xfrm>
            <a:off x="3147840" y="3260880"/>
            <a:ext cx="2841840" cy="35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erences</a:t>
            </a: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bigorrin.org/cherokee_kids.htm</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livebinders.com/play/play/32036</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nativeamericans.mrdonn.org/southeast/cherokee/religion.html</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historyforkids.org/learn/northamerica/before1500/food/cherokee.htm</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kidport.com/reflib/SocialStudies/NativeAmericans/Cherokee.ht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d0d0d"/>
                </a:solidFill>
                <a:latin typeface="Calibri"/>
              </a:rPr>
              <a:t>What changed for the cherokees when settlers arrived?</a:t>
            </a:r>
            <a:endParaRPr b="0" lang="en-US" sz="40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In the late 18th century, the European settlers arrived in significant numbers. The Cherokee Indians battled Carolina settlers in the 1760's, but eventually withdrew to the Blue Ridge Mountain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d0d0d"/>
                </a:solidFill>
                <a:latin typeface="Calibri"/>
              </a:rPr>
              <a:t>References pg#2</a:t>
            </a:r>
            <a:endParaRPr b="0" lang="en-US" sz="40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http://www.smokymtnmall.com/mall/cindians.shtm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46" name="Picture 3" descr=""/>
          <p:cNvPicPr/>
          <p:nvPr/>
        </p:nvPicPr>
        <p:blipFill>
          <a:blip r:embed="rId2"/>
          <a:stretch/>
        </p:blipFill>
        <p:spPr>
          <a:xfrm>
            <a:off x="457200" y="1600200"/>
            <a:ext cx="8229600" cy="44578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erokees lived in Southern Smith Count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were Cherokees known for?</a:t>
            </a: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rokee Indians were known as one of the "Five Civilized Tribes” </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ir political structure was highly developed, and even had an elected chief. </a:t>
            </a:r>
            <a:endParaRPr b="0" lang="en-US" sz="3200" spc="-1" strike="noStrike">
              <a:solidFill>
                <a:srgbClr val="ffffff"/>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id Cherokees believe in?</a:t>
            </a: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herokee worshipped the Deer God. They told him, "We only kill what is needed to feed our families, and we are sorry.”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estivals did Cherokees celebrate?</a:t>
            </a:r>
            <a:endParaRPr b="0" lang="en-US" sz="4000" spc="-1" strike="noStrike">
              <a:solidFill>
                <a:srgbClr val="ffffff"/>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held many festivals. Some, like the </a:t>
            </a:r>
            <a:r>
              <a:rPr b="0" lang="en-US" sz="3200" spc="-1" strike="noStrike" u="sng">
                <a:solidFill>
                  <a:srgbClr val="0000ff"/>
                </a:solidFill>
                <a:uFillTx/>
                <a:latin typeface="Calibri"/>
                <a:hlinkClick r:id="rId2"/>
              </a:rPr>
              <a:t>Green Corn Festival</a:t>
            </a:r>
            <a:r>
              <a:rPr b="0" lang="en-US" sz="3200" spc="-1" strike="noStrike">
                <a:solidFill>
                  <a:srgbClr val="000000"/>
                </a:solidFill>
                <a:latin typeface="Calibri"/>
              </a:rPr>
              <a:t>, was held annually.</a:t>
            </a:r>
            <a:endParaRPr b="0" lang="en-US" sz="3200" spc="-1" strike="noStrike">
              <a:solidFill>
                <a:srgbClr val="ffffff"/>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did Cherokees eat and how did they get it?</a:t>
            </a:r>
            <a:endParaRPr b="0" lang="en-US" sz="4000" spc="-1" strike="noStrike">
              <a:solidFill>
                <a:srgbClr val="ffffff"/>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ople who lived in the Cherokee nation ate mainly corn and beans and squash (the "Three Sisters") that they grew in their fields. They made the corn into flat breads like tacos and tortillas and they made the beans into soups and stews.</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did Cherokees eat and how did they get it?   Pg#2</a:t>
            </a:r>
            <a:endParaRPr b="0" lang="en-US" sz="4000" spc="-1" strike="noStrike">
              <a:solidFill>
                <a:srgbClr val="ffffff"/>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rokee people also ate a lot of meat, especially deer and rabbits, and a lot of fish and turtles. </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rokee people kept on getting a lot of their food from gathering as well. </a:t>
            </a:r>
            <a:endParaRPr b="0" lang="en-US" sz="3200" spc="-1" strike="noStrike">
              <a:solidFill>
                <a:srgbClr val="ffffff"/>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changed for the Cherokees as settlers arrived?</a:t>
            </a:r>
            <a:r>
              <a:rPr b="0" lang="en-US" sz="4000" spc="-1" strike="noStrike">
                <a:solidFill>
                  <a:srgbClr val="ffffff"/>
                </a:solidFill>
                <a:latin typeface="Calibri"/>
              </a:rPr>
              <a:t> </a:t>
            </a:r>
            <a:endParaRPr b="0" lang="en-US" sz="4000" spc="-1" strike="noStrike">
              <a:solidFill>
                <a:srgbClr val="ffffff"/>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ew settlers wanted to occupy the Cherokee lands after the discovery of gold in them. In 1838, the Cherokee were told by the U.S. government to move to the west of Mississippi</a:t>
            </a: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were the daily lives of the Cherokee woman?</a:t>
            </a:r>
            <a:endParaRPr b="0" lang="en-US" sz="4000" spc="-1" strike="noStrike">
              <a:solidFill>
                <a:srgbClr val="ffffff"/>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omen helped in harvesting corn and in painting. They also helped in building the summer and the winter houses. They would also cook; make baskets, and clay pot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8:21:59Z</dcterms:created>
  <dc:creator>Caleb Kirby</dc:creator>
  <dc:description/>
  <dc:language>en-US</dc:language>
  <cp:lastModifiedBy>Caleb Kirby</cp:lastModifiedBy>
  <cp:lastPrinted>2011-10-21T16:38:07Z</cp:lastPrinted>
  <dcterms:modified xsi:type="dcterms:W3CDTF">2011-10-21T19:02:05Z</dcterms:modified>
  <cp:revision>20</cp:revision>
  <dc:subject/>
  <dc:title>Cherokee Tribe</dc:title>
</cp:coreProperties>
</file>